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938-ED96-4B12-A6C1-ADC09669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AEC-88DC-418A-AFA9-A2374193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DDB-94A5-47A4-9520-25099E51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6B0-CF5F-46CE-A7BF-11B9CC2A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880-16DB-4A34-8F5C-92FD54FA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72B-F3C9-4369-BA22-74A107E0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55B-000A-4E9A-AB20-83FBD856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907-E498-42FB-B629-7797BCD1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96C-9E4B-4EF4-AD79-6C59058E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E96-6C06-4CDA-B88D-99D59B95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F58-C5A3-4446-8438-51A8329D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AAF-DBED-432C-BBCF-79CF768A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7E81AC-64C6-44C9-B57E-628988655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flajer1.jpg"/>
          <p:cNvPicPr/>
          <p:nvPr/>
        </p:nvPicPr>
        <p:blipFill>
          <a:blip r:embed="rId1"/>
          <a:srcRect l="0" t="0" r="0" b="53118"/>
          <a:stretch/>
        </p:blipFill>
        <p:spPr>
          <a:xfrm>
            <a:off x="0" y="188640"/>
            <a:ext cx="9143640" cy="601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C:\Users\Marton\Documents\U izradi\VUke\Grbovi\Senka jaca.jpg"/>
          <p:cNvPicPr/>
          <p:nvPr/>
        </p:nvPicPr>
        <p:blipFill>
          <a:blip r:embed="rId1"/>
          <a:stretch/>
        </p:blipFill>
        <p:spPr>
          <a:xfrm>
            <a:off x="285840" y="436680"/>
            <a:ext cx="4885920" cy="705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385920" y="214200"/>
            <a:ext cx="8757720" cy="672840"/>
          </a:xfrm>
          <a:prstGeom prst="rect">
            <a:avLst/>
          </a:prstGeom>
          <a:solidFill>
            <a:srgbClr val="f79646"/>
          </a:solidFill>
          <a:ln>
            <a:solidFill>
              <a:srgbClr val="b66e33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141560" y="366840"/>
            <a:ext cx="72450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RS" sz="2200" spc="-1" strike="noStrike">
                <a:solidFill>
                  <a:srgbClr val="ffffff"/>
                </a:solidFill>
                <a:latin typeface="Verdana"/>
              </a:rPr>
              <a:t>Ključni pojmovi vezani za istraživanje tržiš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38200" y="247680"/>
            <a:ext cx="1428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36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1619280" y="797040"/>
            <a:ext cx="5714640" cy="4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85920" y="1109520"/>
            <a:ext cx="843408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Najvažniji pojmovi istraživanja tržiš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Ad hoc, Awareness, AV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Benchmark, B2B, B2C, Blind study, Brand valu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ATI, CAPI, CAWI, CRM, Ciljana populaci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Data mining, Desk meto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ESOM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Field metode, Fokus grup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Korelacija, Kvalitativna istraživanja, Kvantitativna istraživa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Longitudinalno istraživanj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Omnibus, Online istraživanj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Pilot, Panel, People meter, Profiliranje, Pozicioniranj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Uzorak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3174840" y="5018040"/>
            <a:ext cx="2857320" cy="1599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1"/>
          <p:cNvSpPr/>
          <p:nvPr/>
        </p:nvSpPr>
        <p:spPr>
          <a:xfrm>
            <a:off x="1042920" y="2781360"/>
            <a:ext cx="7357680" cy="82080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  <a:spcAft>
                <a:spcPts val="1199"/>
              </a:spcAft>
            </a:pPr>
            <a:r>
              <a:rPr b="1" lang="sr-Latn-RS" sz="4000" spc="-1" strike="noStrike">
                <a:solidFill>
                  <a:srgbClr val="ffffff"/>
                </a:solidFill>
                <a:latin typeface="Arial Narrow"/>
              </a:rPr>
              <a:t>HVALA NA PAŽN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&amp;Rcy;&amp;iecy;&amp;zcy;&amp;ucy;&amp;lcy;&amp;tcy;&amp;acy;&amp;tcy; &amp;scy;&amp;lcy;&amp;icy;&amp;kcy;&amp;acy; &amp;zcy;&amp;acy; marketing i drustvena odgovornost"/>
          <p:cNvPicPr/>
          <p:nvPr/>
        </p:nvPicPr>
        <p:blipFill>
          <a:blip r:embed="rId1"/>
          <a:stretch/>
        </p:blipFill>
        <p:spPr>
          <a:xfrm>
            <a:off x="0" y="0"/>
            <a:ext cx="4140000" cy="248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C:\Users\Marton\Documents\U izradi\VUke\Grbovi\Senka jaca.jpg"/>
          <p:cNvPicPr/>
          <p:nvPr/>
        </p:nvPicPr>
        <p:blipFill>
          <a:blip r:embed="rId1"/>
          <a:stretch/>
        </p:blipFill>
        <p:spPr>
          <a:xfrm>
            <a:off x="3828960" y="4857840"/>
            <a:ext cx="4885920" cy="7059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3929040" y="1989000"/>
            <a:ext cx="5214600" cy="2296800"/>
          </a:xfrm>
          <a:prstGeom prst="rect">
            <a:avLst/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4106880" y="2631960"/>
            <a:ext cx="478584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sr-Latn-RS" sz="2600" spc="-1" strike="noStrike">
                <a:solidFill>
                  <a:srgbClr val="ffffff"/>
                </a:solidFill>
                <a:latin typeface="Verdana"/>
              </a:rPr>
              <a:t>OSNOVNI PRINCIPI ISTRAŽIVANJA TRŽIŠ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0" y="790560"/>
            <a:ext cx="47858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sr-Latn-RS" sz="1600" spc="-1" strike="noStrike">
                <a:solidFill>
                  <a:srgbClr val="7f7f7f"/>
                </a:solidFill>
                <a:latin typeface="Verdana"/>
              </a:rPr>
              <a:t>Univerzitetu Novom S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sr-Latn-RS" sz="2000" spc="-1" strike="noStrike">
                <a:solidFill>
                  <a:srgbClr val="000000"/>
                </a:solidFill>
                <a:latin typeface="Verdana"/>
              </a:rPr>
              <a:t>Ekonomski fakultet Subo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4357800" y="0"/>
            <a:ext cx="4785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4857840" y="5286240"/>
            <a:ext cx="3816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sr-Latn-RS" sz="1400" spc="-1" strike="noStrike">
                <a:solidFill>
                  <a:srgbClr val="000000"/>
                </a:solidFill>
                <a:latin typeface="Verdana"/>
              </a:rPr>
              <a:t>Predava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sr-Latn-RS" sz="1400" spc="-1" strike="noStrike">
                <a:solidFill>
                  <a:srgbClr val="000000"/>
                </a:solidFill>
                <a:latin typeface="Verdana"/>
              </a:rPr>
              <a:t>Prof. dr Radenko Mar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Slika 1" descr="C:\Users\korisnik\Documents\PRODEKANTSTVO\SAJT\LOGO I MEMORANDUM\Objekti za memorandum\Logo i logotip.jpg"/>
          <p:cNvPicPr/>
          <p:nvPr/>
        </p:nvPicPr>
        <p:blipFill>
          <a:blip r:embed="rId2"/>
          <a:stretch/>
        </p:blipFill>
        <p:spPr>
          <a:xfrm>
            <a:off x="214200" y="285840"/>
            <a:ext cx="2428560" cy="9648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"/>
          <p:cNvPicPr/>
          <p:nvPr/>
        </p:nvPicPr>
        <p:blipFill>
          <a:blip r:embed="rId3"/>
          <a:stretch/>
        </p:blipFill>
        <p:spPr>
          <a:xfrm>
            <a:off x="142920" y="2428920"/>
            <a:ext cx="3714480" cy="2642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"/>
          <p:cNvPicPr/>
          <p:nvPr/>
        </p:nvPicPr>
        <p:blipFill>
          <a:blip r:embed="rId4"/>
          <a:stretch/>
        </p:blipFill>
        <p:spPr>
          <a:xfrm>
            <a:off x="5580000" y="533520"/>
            <a:ext cx="2857320" cy="51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:\Users\Marton\Documents\U izradi\VUke\Grbovi\Senka jaca.jpg"/>
          <p:cNvPicPr/>
          <p:nvPr/>
        </p:nvPicPr>
        <p:blipFill>
          <a:blip r:embed="rId1"/>
          <a:stretch/>
        </p:blipFill>
        <p:spPr>
          <a:xfrm>
            <a:off x="285840" y="436680"/>
            <a:ext cx="4885920" cy="7059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385920" y="214200"/>
            <a:ext cx="8757720" cy="672840"/>
          </a:xfrm>
          <a:prstGeom prst="rect">
            <a:avLst/>
          </a:prstGeom>
          <a:solidFill>
            <a:srgbClr val="f79646"/>
          </a:solidFill>
          <a:ln>
            <a:solidFill>
              <a:srgbClr val="b66e33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sr-Latn-RS" sz="2200" spc="-1" strike="noStrike">
                <a:solidFill>
                  <a:srgbClr val="ffffff"/>
                </a:solidFill>
                <a:latin typeface="Verdana"/>
              </a:rPr>
              <a:t>UOPŠTENO O ISTRAŽIVANJU TRŽIŠ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00040" y="214200"/>
            <a:ext cx="1428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407880" y="1484280"/>
            <a:ext cx="84243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4520" indent="-344520" algn="just">
              <a:lnSpc>
                <a:spcPct val="120000"/>
              </a:lnSpc>
              <a:spcAft>
                <a:spcPts val="601"/>
              </a:spcAft>
              <a:buClr>
                <a:srgbClr val="c14e45"/>
              </a:buClr>
              <a:buFont typeface="Wingdings" charset="2"/>
              <a:buChar char="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hodi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od istraživanja tržišt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globalnom tržištu u prethodnoj godin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znosili su oko 28 milijardi dolara (Europa – 46 %, SAD i Kanada – 32%, Azija – 15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Latinska Amerika – 5%, Bliski istok i Afrika – 2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20000"/>
              </a:lnSpc>
              <a:spcAft>
                <a:spcPts val="601"/>
              </a:spcAft>
              <a:buClr>
                <a:srgbClr val="c14e45"/>
              </a:buClr>
              <a:buFont typeface="Wingdings" charset="2"/>
              <a:buChar char="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jveće svetske kompanije (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agencij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za istraživanje tržišt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: Kantar Group (WPP - Wire and Plastic Products plc), IMS Health Inc., GFK AG, Ipsos, Synov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20000"/>
              </a:lnSpc>
              <a:spcAft>
                <a:spcPts val="601"/>
              </a:spcAft>
              <a:buClr>
                <a:srgbClr val="c14e45"/>
              </a:buClr>
              <a:buFont typeface="Wingdings" charset="2"/>
              <a:buChar char=""/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U Republici Srbiji to su: Nina Media, MASMI Beograd, Deep Dive, i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20000"/>
              </a:lnSpc>
              <a:spcAft>
                <a:spcPts val="601"/>
              </a:spcAft>
              <a:buClr>
                <a:srgbClr val="c14e45"/>
              </a:buClr>
              <a:buFont typeface="Wingdings" charset="2"/>
              <a:buChar char=""/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Kompanij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ično izdvajaju oko 1% do 2% godišnjeg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prihod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za marketinška istraživan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:\Users\Marton\Documents\U izradi\VUke\Grbovi\Senka jaca.jpg"/>
          <p:cNvPicPr/>
          <p:nvPr/>
        </p:nvPicPr>
        <p:blipFill>
          <a:blip r:embed="rId1"/>
          <a:stretch/>
        </p:blipFill>
        <p:spPr>
          <a:xfrm>
            <a:off x="285840" y="436680"/>
            <a:ext cx="4885920" cy="705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385920" y="214200"/>
            <a:ext cx="8757720" cy="672840"/>
          </a:xfrm>
          <a:prstGeom prst="rect">
            <a:avLst/>
          </a:prstGeom>
          <a:solidFill>
            <a:srgbClr val="f79646"/>
          </a:solidFill>
          <a:ln>
            <a:solidFill>
              <a:srgbClr val="b66e33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143000" y="351000"/>
            <a:ext cx="72450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RS" sz="2200" spc="-1" strike="noStrike">
                <a:solidFill>
                  <a:srgbClr val="ffffff"/>
                </a:solidFill>
                <a:latin typeface="Verdana"/>
              </a:rPr>
              <a:t>Pojam istraživanja tržiš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38200" y="249120"/>
            <a:ext cx="1428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Marton\Documents\U izradi\VUke\lupaUpitnik.jpg"/>
          <p:cNvPicPr/>
          <p:nvPr/>
        </p:nvPicPr>
        <p:blipFill>
          <a:blip r:embed="rId2"/>
          <a:srcRect l="21659" t="0" r="-7695" b="0"/>
          <a:stretch/>
        </p:blipFill>
        <p:spPr>
          <a:xfrm>
            <a:off x="0" y="4076640"/>
            <a:ext cx="1850760" cy="2781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8"/>
          <p:cNvSpPr/>
          <p:nvPr/>
        </p:nvSpPr>
        <p:spPr>
          <a:xfrm>
            <a:off x="1619280" y="797040"/>
            <a:ext cx="5714640" cy="4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85920" y="1011240"/>
            <a:ext cx="8434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traživanje tržišta je standardizirani  postupak, zasnovan na principima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nauč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ode, koj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 se prikupljaju, analiziraju i interpretiraju podaci  sa svrhom da se dobiju informacije potrebne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dlučivanj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rešavanj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roblema na području tržišnog poslov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 je standardiz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o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, utemeljen na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naučnoj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odi, a svrha mu je prikupljanje podataka radi dobi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ja informaci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U osnovi se razlikuje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ednokratn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traživanje i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kontinuiran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traživan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://www.referenceforbusiness.com/photos/market-research-665.jpg"/>
          <p:cNvPicPr/>
          <p:nvPr/>
        </p:nvPicPr>
        <p:blipFill>
          <a:blip r:embed="rId3"/>
          <a:stretch/>
        </p:blipFill>
        <p:spPr>
          <a:xfrm>
            <a:off x="3676680" y="4221000"/>
            <a:ext cx="3657240" cy="21762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:\Users\Marton\Documents\U izradi\VUke\Grbovi\Senka jaca.jpg"/>
          <p:cNvPicPr/>
          <p:nvPr/>
        </p:nvPicPr>
        <p:blipFill>
          <a:blip r:embed="rId1"/>
          <a:stretch/>
        </p:blipFill>
        <p:spPr>
          <a:xfrm>
            <a:off x="285840" y="436680"/>
            <a:ext cx="4885920" cy="705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385920" y="214200"/>
            <a:ext cx="8757720" cy="672840"/>
          </a:xfrm>
          <a:prstGeom prst="rect">
            <a:avLst/>
          </a:prstGeom>
          <a:solidFill>
            <a:srgbClr val="f79646"/>
          </a:solidFill>
          <a:ln>
            <a:solidFill>
              <a:srgbClr val="b66e33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143000" y="351000"/>
            <a:ext cx="72450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RS" sz="2200" spc="-1" strike="noStrike">
                <a:solidFill>
                  <a:srgbClr val="ffffff"/>
                </a:solidFill>
                <a:latin typeface="Verdana"/>
              </a:rPr>
              <a:t>Kada se primenjuje istraživanje tržiš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38200" y="249120"/>
            <a:ext cx="1428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Marton\Documents\U izradi\VUke\lupaUpitnik.jpg"/>
          <p:cNvPicPr/>
          <p:nvPr/>
        </p:nvPicPr>
        <p:blipFill>
          <a:blip r:embed="rId2"/>
          <a:srcRect l="21659" t="0" r="-7695" b="0"/>
          <a:stretch/>
        </p:blipFill>
        <p:spPr>
          <a:xfrm>
            <a:off x="0" y="4076640"/>
            <a:ext cx="1850760" cy="2781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1619280" y="797040"/>
            <a:ext cx="5714640" cy="4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265400" y="1557360"/>
            <a:ext cx="843408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traživanje tržišt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 primjenjuje k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Calibri"/>
              <a:buAutoNum type="arabicPeriod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o otkriti tržišne moguć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Calibri"/>
              <a:buAutoNum type="arabicPeriod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o segmentirati tržište i defini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at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iljne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gru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Calibri"/>
              <a:buAutoNum type="arabicPeriod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iramo i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vodimo (op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š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marketinške aktivnosti (4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Calibri"/>
              <a:buAutoNum type="arabicPeriod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liziramo postignute rezultate (npr. ROI - Return On Invest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C:\Users\Marton\Documents\U izradi\VUke\Grbovi\Senka jaca.jpg"/>
          <p:cNvPicPr/>
          <p:nvPr/>
        </p:nvPicPr>
        <p:blipFill>
          <a:blip r:embed="rId1"/>
          <a:stretch/>
        </p:blipFill>
        <p:spPr>
          <a:xfrm>
            <a:off x="285840" y="436680"/>
            <a:ext cx="4885920" cy="7059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385920" y="214200"/>
            <a:ext cx="8757720" cy="672840"/>
          </a:xfrm>
          <a:prstGeom prst="rect">
            <a:avLst/>
          </a:prstGeom>
          <a:solidFill>
            <a:srgbClr val="f79646"/>
          </a:solidFill>
          <a:ln>
            <a:solidFill>
              <a:srgbClr val="b66e33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143000" y="351000"/>
            <a:ext cx="72450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RS" sz="2200" spc="-1" strike="noStrike">
                <a:solidFill>
                  <a:srgbClr val="ffffff"/>
                </a:solidFill>
                <a:latin typeface="Verdana"/>
              </a:rPr>
              <a:t>Istraživanje tržišta kao marketinška aktiv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38200" y="249120"/>
            <a:ext cx="1428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36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1619280" y="797040"/>
            <a:ext cx="5714640" cy="4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84360" y="1365120"/>
            <a:ext cx="843552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traživanje tržišta koristimo kada planiramo i sprovodimo marketinške aktivnosti (4P – marketinški mik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istraživanja za potrebe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istraživanje na području promoci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istraživanje za potrebe prodaje (ce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Istraživanje za potrebe plasmana (distribuc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Danas se često još nadovezuju 3 dodatna “P” – ljudi (people), proces (process) i fizičko okruženje (physical environ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1.bp.blogspot.com/-lLIf6By7yQI/UIljP_IyygI/AAAAAAAABII/M36WQYRtBLE/s400/4ps%5B1%5D.png"/>
          <p:cNvPicPr/>
          <p:nvPr/>
        </p:nvPicPr>
        <p:blipFill>
          <a:blip r:embed="rId2"/>
          <a:stretch/>
        </p:blipFill>
        <p:spPr>
          <a:xfrm>
            <a:off x="108000" y="4976640"/>
            <a:ext cx="1723680" cy="1738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Users\Marton\Documents\U izradi\VUke\Grbovi\Senka jaca.jpg"/>
          <p:cNvPicPr/>
          <p:nvPr/>
        </p:nvPicPr>
        <p:blipFill>
          <a:blip r:embed="rId1"/>
          <a:stretch/>
        </p:blipFill>
        <p:spPr>
          <a:xfrm>
            <a:off x="285840" y="436680"/>
            <a:ext cx="4885920" cy="705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385920" y="214200"/>
            <a:ext cx="8757720" cy="672840"/>
          </a:xfrm>
          <a:prstGeom prst="rect">
            <a:avLst/>
          </a:prstGeom>
          <a:solidFill>
            <a:srgbClr val="f79646"/>
          </a:solidFill>
          <a:ln>
            <a:solidFill>
              <a:srgbClr val="b66e33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143000" y="351000"/>
            <a:ext cx="72450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RS" sz="2200" spc="-1" strike="noStrike">
                <a:solidFill>
                  <a:srgbClr val="ffffff"/>
                </a:solidFill>
                <a:latin typeface="Verdana"/>
              </a:rPr>
              <a:t>Istraživanje tržišta za potrebe proizvo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538200" y="249120"/>
            <a:ext cx="1428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36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1619280" y="797040"/>
            <a:ext cx="5714640" cy="4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684360" y="1365120"/>
            <a:ext cx="84355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traživanje tržišta koristimo kada planiramo politiku plasmana proizvoda vezanu 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Razvoj novog proizvoda (test imena, test ambalaže, cenovno pozicioniranje, test proizvoda (usluge) – što potrošačima treba?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Modifikacija proizvoda (usluge) – istraživanja zadovoljstva, istaživanje kvaliteta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Komparacija sa konkurencijom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Analiza jakih i slabih strana – SWOT analiza (analiza snage, slabosti, prilika i pretnji)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511200" y="4705200"/>
            <a:ext cx="2466720" cy="184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3492360" y="4705200"/>
            <a:ext cx="2295000" cy="1847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4"/>
          <a:stretch/>
        </p:blipFill>
        <p:spPr>
          <a:xfrm>
            <a:off x="6276960" y="4705200"/>
            <a:ext cx="2142720" cy="1847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Users\Marton\Documents\U izradi\VUke\Grbovi\Senka jaca.jpg"/>
          <p:cNvPicPr/>
          <p:nvPr/>
        </p:nvPicPr>
        <p:blipFill>
          <a:blip r:embed="rId1"/>
          <a:stretch/>
        </p:blipFill>
        <p:spPr>
          <a:xfrm>
            <a:off x="285840" y="436680"/>
            <a:ext cx="4885920" cy="7059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385920" y="214200"/>
            <a:ext cx="8757720" cy="672840"/>
          </a:xfrm>
          <a:prstGeom prst="rect">
            <a:avLst/>
          </a:prstGeom>
          <a:solidFill>
            <a:srgbClr val="f79646"/>
          </a:solidFill>
          <a:ln>
            <a:solidFill>
              <a:srgbClr val="b66e33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141560" y="181080"/>
            <a:ext cx="7245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RS" sz="2200" spc="-1" strike="noStrike">
                <a:solidFill>
                  <a:srgbClr val="ffffff"/>
                </a:solidFill>
                <a:latin typeface="Verdana"/>
              </a:rPr>
              <a:t>Istraživanje tržišta na području promocije, cene i plasm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38200" y="249120"/>
            <a:ext cx="1428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36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1619280" y="797040"/>
            <a:ext cx="5714640" cy="4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85920" y="1109520"/>
            <a:ext cx="843408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Česta istraživanja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tržišt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 području promocije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podrazumevaj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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unikacijska istraživanja (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uspešno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glašavanja ili drugih promotivnih akcija, efikanost PR-a, uočljivost aktivnosti u području DOP-a (društveno odgovorno ponašanje – društveno odgovorni marketing), testiranje reklama, slogana)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Česta istraživanja na području cene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podrazumevaj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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ovna elastičnost, određivanje cene proizvoda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Česta istraživanja na području plasmana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podrazumevaj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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očljivost proizvoda, istraživanje kanala distribucije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6400800" y="5445000"/>
            <a:ext cx="2742840" cy="1366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Marton\Documents\U izradi\VUke\Grbovi\Senka jaca.jpg"/>
          <p:cNvPicPr/>
          <p:nvPr/>
        </p:nvPicPr>
        <p:blipFill>
          <a:blip r:embed="rId1"/>
          <a:stretch/>
        </p:blipFill>
        <p:spPr>
          <a:xfrm>
            <a:off x="285840" y="436680"/>
            <a:ext cx="4885920" cy="7059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385920" y="214200"/>
            <a:ext cx="8757720" cy="672840"/>
          </a:xfrm>
          <a:prstGeom prst="rect">
            <a:avLst/>
          </a:prstGeom>
          <a:solidFill>
            <a:srgbClr val="f79646"/>
          </a:solidFill>
          <a:ln>
            <a:solidFill>
              <a:srgbClr val="b66e33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1141560" y="366840"/>
            <a:ext cx="72450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RS" sz="2200" spc="-1" strike="noStrike">
                <a:solidFill>
                  <a:srgbClr val="ffffff"/>
                </a:solidFill>
                <a:latin typeface="Verdana"/>
              </a:rPr>
              <a:t>Obuka za istraživanje tržiš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8200" y="249120"/>
            <a:ext cx="1428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36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1619280" y="797040"/>
            <a:ext cx="5714640" cy="4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85920" y="1109520"/>
            <a:ext cx="843408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d čega zavisi odluka da li će kompanija realizovati istraživanje tržiš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Raspoloživost/dostupnos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Vreme potrebno za realizaciju istraživa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nage i stepena značajnosti odluke koju treba don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Vrednos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cij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 odnosu na trošak koji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njihov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bi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je izisk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2"/>
          <a:stretch/>
        </p:blipFill>
        <p:spPr>
          <a:xfrm>
            <a:off x="114480" y="4078440"/>
            <a:ext cx="1852200" cy="277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1</TotalTime>
  <Application>LibreOffice/7.4.7.2$Linux_X86_64 LibreOffice_project/40$Build-2</Application>
  <AppVersion>15.0000</AppVersion>
  <Words>634</Words>
  <Paragraphs>93</Paragraphs>
  <Company>H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7T12:55:08Z</dcterms:created>
  <dc:creator>Marton</dc:creator>
  <dc:description/>
  <dc:language>en-US</dc:language>
  <cp:lastModifiedBy>Бојан Матковски</cp:lastModifiedBy>
  <dcterms:modified xsi:type="dcterms:W3CDTF">2023-11-10T09:46:17Z</dcterms:modified>
  <cp:revision>25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ojekcija na ekranu (4:3)</vt:lpwstr>
  </property>
  <property fmtid="{D5CDD505-2E9C-101B-9397-08002B2CF9AE}" pid="3" name="Slides">
    <vt:r8>11</vt:r8>
  </property>
</Properties>
</file>